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5942-5D5B-4F7E-BD4E-1B9DB9F0C71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17F-81A1-4902-9C0B-47DB26CA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83A-9D48-4A69-AED2-27672FCE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FD8-78A0-4A4B-9124-2A93EE12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C2D-D523-4E02-AFF5-20B555AF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6C7-7E1E-4E4C-8EC9-98F08763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C28-5A21-456F-AE12-84E239C0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01B-48D5-4A38-BE05-5CCE241A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573-9373-4229-90C4-6CDDAF69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469-4A26-4028-B8FA-237DC0DC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DA1-47EE-4787-80EF-9A58BA72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369-BBBD-4BF1-A7EE-544EA597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11A-4416-4734-935C-633F2D38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F3F8-BF12-4654-AFCD-5B3F0B84E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Watch these Videos: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People of the Southwes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 (Password = explorers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akot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676520"/>
          <a:ext cx="8839440" cy="17618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155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u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ueb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lti-s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rrac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uild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un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78" descr="r_osbn_port_iroq_lg"/>
          <p:cNvPicPr/>
          <p:nvPr/>
        </p:nvPicPr>
        <p:blipFill>
          <a:blip r:embed="rId1"/>
          <a:stretch/>
        </p:blipFill>
        <p:spPr>
          <a:xfrm>
            <a:off x="6961320" y="3809880"/>
            <a:ext cx="1720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0" descr="ist2_1292508_indian_pueblo_at_acoma"/>
          <p:cNvPicPr/>
          <p:nvPr/>
        </p:nvPicPr>
        <p:blipFill>
          <a:blip r:embed="rId2"/>
          <a:stretch/>
        </p:blipFill>
        <p:spPr>
          <a:xfrm>
            <a:off x="1295280" y="3924360"/>
            <a:ext cx="3048120" cy="2028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5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2286000" y="2438280"/>
            <a:ext cx="647712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2133720" y="5105520"/>
            <a:ext cx="167616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304920" y="4343400"/>
            <a:ext cx="2209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outhw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ueblo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The Pueblo 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Dry – Desert Like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Rocky Mountains &amp; in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ERN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portion of Rocky Mountains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NOR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the Rio Grande River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8" descr="pueblo3"/>
          <p:cNvPicPr/>
          <p:nvPr/>
        </p:nvPicPr>
        <p:blipFill>
          <a:blip r:embed="rId1"/>
          <a:stretch/>
        </p:blipFill>
        <p:spPr>
          <a:xfrm>
            <a:off x="5486400" y="2362320"/>
            <a:ext cx="3200400" cy="3166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ulti-Story, Terraced Building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ade of Mud and Soi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" name="Picture 10" descr="pueblo2"/>
          <p:cNvPicPr/>
          <p:nvPr/>
        </p:nvPicPr>
        <p:blipFill>
          <a:blip r:embed="rId1"/>
          <a:stretch/>
        </p:blipFill>
        <p:spPr>
          <a:xfrm>
            <a:off x="1905120" y="2590920"/>
            <a:ext cx="529596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334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4724280"/>
          <a:ext cx="8610480" cy="194472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60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ld N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ttle Rainf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gh Flat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c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39" descr="adobe"/>
          <p:cNvPicPr/>
          <p:nvPr/>
        </p:nvPicPr>
        <p:blipFill>
          <a:blip r:embed="rId1"/>
          <a:stretch/>
        </p:blipFill>
        <p:spPr>
          <a:xfrm>
            <a:off x="5715000" y="1676520"/>
            <a:ext cx="3276720" cy="217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403812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veryone farmed because it was it was a difficult job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pueblo"/>
          <p:cNvPicPr/>
          <p:nvPr/>
        </p:nvPicPr>
        <p:blipFill>
          <a:blip r:embed="rId1"/>
          <a:stretch/>
        </p:blipFill>
        <p:spPr>
          <a:xfrm>
            <a:off x="1752480" y="2133720"/>
            <a:ext cx="3657600" cy="184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indian corn"/>
          <p:cNvPicPr/>
          <p:nvPr/>
        </p:nvPicPr>
        <p:blipFill>
          <a:blip r:embed="rId2"/>
          <a:stretch/>
        </p:blipFill>
        <p:spPr>
          <a:xfrm>
            <a:off x="6400800" y="281952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4496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taoscelebrate"/>
          <p:cNvPicPr/>
          <p:nvPr/>
        </p:nvPicPr>
        <p:blipFill>
          <a:blip r:embed="rId1"/>
          <a:stretch/>
        </p:blipFill>
        <p:spPr>
          <a:xfrm>
            <a:off x="4419720" y="2352600"/>
            <a:ext cx="3886200" cy="3870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pottery, weaving, car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Knowledge of Environmen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 - Corn &amp; Tobacc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Cow Creek-Indian Woman1"/>
          <p:cNvPicPr/>
          <p:nvPr/>
        </p:nvPicPr>
        <p:blipFill>
          <a:blip r:embed="rId1"/>
          <a:stretch/>
        </p:blipFill>
        <p:spPr>
          <a:xfrm>
            <a:off x="5946840" y="2438280"/>
            <a:ext cx="2813040" cy="4181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pots"/>
          <p:cNvPicPr/>
          <p:nvPr/>
        </p:nvPicPr>
        <p:blipFill>
          <a:blip r:embed="rId2"/>
          <a:srcRect l="0" t="30955" r="0" b="27148"/>
          <a:stretch/>
        </p:blipFill>
        <p:spPr>
          <a:xfrm>
            <a:off x="1219320" y="4876920"/>
            <a:ext cx="4000320" cy="16761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06:38Z</dcterms:modified>
  <cp:revision>15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